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97DB-71C4-4432-954E-3CF205C2D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3783-E774-4C68-87BA-B03A73CE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103B-925F-4A6C-862A-709CD7BB4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B524-1898-4F69-8331-BB18C15AE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60A9-387E-408F-8618-03E25E32B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9614-EC82-4346-A6FB-F905698B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2C708-CE10-4459-9687-3BD3BA91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B02C4-EC4D-4758-A08E-0E11BA09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B117-343B-48A8-8083-1F055DAC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2809-804C-4D3F-B072-955CA16A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D806-8232-4F62-96C8-8093DA72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4F1A-E74F-4FB9-83C0-073A11FB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1504-8350-413D-B2C1-146EFDE2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F427-012C-4923-869E-375B5F2C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9195-28FB-4807-A933-DB9A8450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3BFC-F82F-43CB-8620-72BD1A620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379C-A58C-4C40-A245-D0CEA382D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A9BA-9253-4479-B3A1-DD1417F0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B97C-3ABB-440C-8851-CAC7D8FB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53ED-3E24-4F28-B02F-B8872F13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2FAD-CF77-4E58-AF24-3E5D2693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F313-5D1B-4B7C-9DB9-8B5332ED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E0D4-363C-4687-91F3-7E05268A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E4C3-51E7-4C22-B669-DE2B8993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4AE7-7806-41B8-9DA2-67448A71AD6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1752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3332160"/>
            <a:ext cx="8763120" cy="2788920"/>
            <a:chOff x="0" y="3332160"/>
            <a:chExt cx="8763120" cy="2788920"/>
          </a:xfrm>
        </p:grpSpPr>
        <p:sp>
          <p:nvSpPr>
            <p:cNvPr id="49" name=""/>
            <p:cNvSpPr/>
            <p:nvPr/>
          </p:nvSpPr>
          <p:spPr>
            <a:xfrm>
              <a:off x="990720" y="3332160"/>
              <a:ext cx="7772400" cy="2788920"/>
            </a:xfrm>
            <a:prstGeom prst="rect">
              <a:avLst/>
            </a:prstGeom>
            <a:solidFill>
              <a:srgbClr val="33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038240" y="3593520"/>
              <a:ext cx="7648560" cy="2445840"/>
            </a:xfrm>
            <a:prstGeom prst="rect">
              <a:avLst/>
            </a:prstGeom>
            <a:solidFill>
              <a:srgbClr val="fff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4901040"/>
              <a:ext cx="990720" cy="0"/>
            </a:xfrm>
            <a:prstGeom prst="line">
              <a:avLst/>
            </a:prstGeom>
            <a:ln w="5076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35040" y="533520"/>
            <a:ext cx="8077320" cy="304560"/>
            <a:chOff x="635040" y="533520"/>
            <a:chExt cx="8077320" cy="304560"/>
          </a:xfrm>
        </p:grpSpPr>
        <p:sp>
          <p:nvSpPr>
            <p:cNvPr id="53" name=""/>
            <p:cNvSpPr/>
            <p:nvPr/>
          </p:nvSpPr>
          <p:spPr>
            <a:xfrm>
              <a:off x="6273720" y="533520"/>
              <a:ext cx="2438640" cy="304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35040" y="685800"/>
              <a:ext cx="8077320" cy="0"/>
            </a:xfrm>
            <a:prstGeom prst="line">
              <a:avLst/>
            </a:prstGeom>
            <a:ln w="4428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B481-B705-4C58-AE21-94345E45D2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35200" y="1377720"/>
            <a:ext cx="701352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The New</a:t>
            </a:r>
            <a:br>
              <a:rPr sz="2400"/>
            </a:br>
            <a:r>
              <a:rPr b="0" lang="en-CA" sz="40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Emissions Modeling Framework</a:t>
            </a:r>
            <a:br>
              <a:rPr sz="4000"/>
            </a:br>
            <a:r>
              <a:rPr b="0" lang="en-CA" sz="36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System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82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63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Emissions Modeling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Marc Houyoux, Madeleine Strum, Rich Mason, Norm Possi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David Misenheimer, Darryl Weatherhead, Larry Sorr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Bill Benjey, George Pouli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Contractor: UNC Institute for th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Alison Eyth, Qun He, Alexis Zubrow, Darin Del Vecchio,</a:t>
            </a:r>
            <a:br>
              <a:rPr sz="1400"/>
            </a:b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Dongmei Y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521400" y="3576600"/>
          <a:ext cx="2170080" cy="24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1400" y="3576600"/>
                    <a:ext cx="2170080" cy="24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7147800" y="3862440"/>
            <a:ext cx="128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ongIsland"/>
              </a:rPr>
              <a:t>EM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A574-1EF4-45BA-B0AB-65D833A4046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ow QA Manager helps EP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s QA steps, who/when steps performed, &amp; QA status along with the data. 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We can easily find QA status of data. We can see the overall QA status, what QA steps complete, who performed steps, and the results. Users can add steps as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ks QA steps by dataset version.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We know what steps were performed on each version. Helps prevent skipping Q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running SQL queries on the data to perform QA steps and summaries.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Give us the flexibility and convenience of database queries. Runs within EMF and results stored for present and future 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lates of QA steps (queries) can be created and reused.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Helps ensure QA of data gets done, decreases learning curve for new emissions model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ks both automated (run by EMF) and external and/or manual QA steps.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Gives us needed flexibility to get work d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C410-8D93-4F42-AA1B-9F9F63D8EFE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ow Case Manager helps EP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n a “Case” (e.g., SMOKE run) linked to datasets in Data Manager.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We have a single system to use for data handling and running SMO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rts all SMOKE-ready files needed for a SMOKE run with a few mouse clicks.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Saves time and prevents possible errors associated with manually writing out many data files &amp; formats from many other data sour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interface for SMOKE.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Reduces learning curve for new emissions modelers. We have a permanent record of SMOKE inputs, settings, and location of outpu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its SMOKE jobs, preprocessing, and postprocessing to a compute server (“amber”) or EMF server.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Supports desktop access to data and SMOKE cases, while running at NCC compute cluster to meet computational needs.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E302-9387-4607-90B1-A01CE26065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057040" y="1752120"/>
            <a:ext cx="6629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How EPA is using the EMF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031760" y="3597120"/>
            <a:ext cx="7678800" cy="24447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842000" y="3589200"/>
            <a:ext cx="3444840" cy="24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994A-30FF-47F8-9930-8EBEC102EF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Uses to dat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6800" y="1599840"/>
            <a:ext cx="7920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Manager and Case “Inputs” functions used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-based CAP platform v3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2002, 2009, 2014, 2020, 2030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-based CAP/HAP platform v3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200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zone NAAQS Final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AQ’s Locomotive Marine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 2005-based 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roit Multi-Pollutant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ly run using EMF Case Manag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OKE 2020 base case to demonstrate we can replicate the “old” way of running SMO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tion Tool runs for ORD to create SOA-enabled speciation profiles for SAPRC99 and CB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ew sectors on the 2002”ae” (v4 platform), in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7E20-EC82-484B-B19C-70F5785076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MF in FY 2008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-house efforts to setup EMF for operational u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F work 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and 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“quick and easy” emissions sensitivity tool for AQ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ion of O3 NAAQS RIA Mobile Control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x/SOx NAAQS RIA Control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 SMOKE inpu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AQ’s Bond Rule and SECA / IMO 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roit Multi-Pollutant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coming runs of SMOKE with EM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ae (v4) 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base runs for 2003, 2004, 2005, &amp; 2006 for CDC/Phase, CMAQ evaluation, and Accoun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D741-D337-464E-9C63-49C7D17490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MF futur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going work to refine Data Manager, QA Manager with a more robust protocol, Case Manager,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part of OAQPS’s daily operations, EMF is assisting us manage emissions modeling for 8+ projects simultaneously with few staff and high qu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ility for adapting to meet data management and modeling needs of others in AQAD and E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MF could be “Environmental Modeling Framework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adily adaptable to support other applications such as CMAQ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D0F7-B130-479D-AA22-9D2BBC95B7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998720" y="2836800"/>
            <a:ext cx="520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MF dem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94E1-8B25-456A-A67E-2AF50FB396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verview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status and 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EPA is using the EM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F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F D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E797-96EA-4D03-82B4-AB8EB8E3FB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MF Motiv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timeliness, quality, and transparency of emissions data used in air quality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3352680"/>
            <a:ext cx="1716120" cy="9939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iss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41680" y="3352680"/>
            <a:ext cx="1716120" cy="993960"/>
          </a:xfrm>
          <a:prstGeom prst="rect">
            <a:avLst/>
          </a:prstGeom>
          <a:solidFill>
            <a:srgbClr val="cccc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missions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91320" y="2743200"/>
            <a:ext cx="1716120" cy="993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 Qualit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91320" y="3886200"/>
            <a:ext cx="1716120" cy="993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i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4800" y="2590920"/>
            <a:ext cx="533520" cy="533160"/>
          </a:xfrm>
          <a:prstGeom prst="downArrow">
            <a:avLst>
              <a:gd name="adj1" fmla="val 42185"/>
              <a:gd name="adj2" fmla="val 6220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5" idx="3"/>
            <a:endCxn id="106" idx="1"/>
          </p:cNvCxnSpPr>
          <p:nvPr/>
        </p:nvCxnSpPr>
        <p:spPr>
          <a:xfrm>
            <a:off x="3087360" y="3849480"/>
            <a:ext cx="440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11" name=""/>
          <p:cNvCxnSpPr>
            <a:stCxn id="106" idx="3"/>
            <a:endCxn id="107" idx="1"/>
          </p:cNvCxnSpPr>
          <p:nvPr/>
        </p:nvCxnSpPr>
        <p:spPr>
          <a:xfrm flipV="1">
            <a:off x="5272200" y="3239640"/>
            <a:ext cx="519840" cy="610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12" name=""/>
          <p:cNvCxnSpPr>
            <a:stCxn id="106" idx="3"/>
            <a:endCxn id="108" idx="1"/>
          </p:cNvCxnSpPr>
          <p:nvPr/>
        </p:nvCxnSpPr>
        <p:spPr>
          <a:xfrm>
            <a:off x="5272200" y="3849480"/>
            <a:ext cx="519840" cy="533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13" name=""/>
          <p:cNvSpPr/>
          <p:nvPr/>
        </p:nvSpPr>
        <p:spPr>
          <a:xfrm>
            <a:off x="3162240" y="4479840"/>
            <a:ext cx="2561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ata hand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MOKE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QA che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tandard proced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ocu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produc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B103-D8C6-4AEB-9FAC-28B95EFE80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MF Goal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emissions modeling faster and more 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nd implement emissions modeling protoc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data/processing transparency &amp; tr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with versions, metadata, QA st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issions modeling applications and associated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queries and summ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 needs for multi-pollutant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tools that can be used by EPA and others (e.g., RPOs, sta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805800">
            <a:off x="894960" y="191124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Symbol"/>
                <a:ea typeface="Symbol"/>
              </a:rPr>
              <a:t>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805800">
            <a:off x="888480" y="236844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805800">
            <a:off x="888480" y="14778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805800">
            <a:off x="888480" y="401796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805800">
            <a:off x="888480" y="44308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Symbol"/>
                <a:ea typeface="Symbol"/>
              </a:rPr>
              <a:t>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DAB2-7279-41E9-89FB-9BBDC7A8CE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0280" y="1300320"/>
            <a:ext cx="7834320" cy="53481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74800" y="457200"/>
            <a:ext cx="7967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MF capabilities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43160" y="1905120"/>
            <a:ext cx="60944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ata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rganizes/stores da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vides tracking of data changes using data vers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upports metada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A Manager” facilitates QA capabilities and tracking of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A steps, summaries, and quer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ase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rganizes model steps, inputs, &amp; parameters (e.g., SMOKE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uns Emissions Modeling steps at NCC, records history and registers outpu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trol Strategy Tool (Co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ores database of control “measures” (practices and technologie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upports user to create control strategies (multi-pollutant functionality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pplies controls to emission inventories for use in SMOK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done in a multi-user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OKE and other tools are run from EMF, but are not within EM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23760" y="1916280"/>
            <a:ext cx="1243080" cy="22860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23760" y="2144880"/>
            <a:ext cx="1243080" cy="22860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44640" y="2908440"/>
            <a:ext cx="1255680" cy="45720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78000" y="1973160"/>
            <a:ext cx="414360" cy="2232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54080" y="2378160"/>
            <a:ext cx="671760" cy="90972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95560" y="3367080"/>
            <a:ext cx="528480" cy="9000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25600" y="1371600"/>
            <a:ext cx="182520" cy="18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173F-4AF5-47E2-BB4A-58DA2339D7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EMF </a:t>
            </a: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Development Status</a:t>
            </a:r>
            <a:br>
              <a:rPr sz="4400"/>
            </a:b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and benefits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38240" y="3584520"/>
            <a:ext cx="7678800" cy="24544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294080" y="3578400"/>
            <a:ext cx="3695760" cy="246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53A58-2558-49D0-A11F-BEE162FF8D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imelin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5160" y="3471840"/>
            <a:ext cx="7623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1961640" y="3244680"/>
            <a:ext cx="11160" cy="3313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7736040" y="3244680"/>
            <a:ext cx="10800" cy="3238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13560" y="3244680"/>
            <a:ext cx="0" cy="327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65600" y="3244680"/>
            <a:ext cx="49320" cy="32893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23600" y="3637080"/>
            <a:ext cx="686520" cy="36828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23960" y="3637080"/>
            <a:ext cx="686520" cy="36828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66880" y="3637080"/>
            <a:ext cx="686520" cy="36828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90800" y="3637080"/>
            <a:ext cx="686520" cy="36828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44480" y="2670120"/>
            <a:ext cx="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22680" y="2217600"/>
            <a:ext cx="99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ct ‘0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21600" y="2685960"/>
            <a:ext cx="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87680" y="2684520"/>
            <a:ext cx="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56320" y="1925640"/>
            <a:ext cx="99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r ’0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tea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se EM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40120" y="4275000"/>
            <a:ext cx="10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y ‘0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produ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loa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4545000" y="3481560"/>
            <a:ext cx="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49960" y="4241880"/>
            <a:ext cx="1029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p ’0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Desig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86000" y="3481560"/>
            <a:ext cx="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65280" y="5205240"/>
            <a:ext cx="1606680" cy="271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1"/>
                </a:solidFill>
                <a:latin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22440" y="5816520"/>
            <a:ext cx="2262240" cy="271440"/>
          </a:xfrm>
          <a:prstGeom prst="rect">
            <a:avLst/>
          </a:prstGeom>
          <a:solidFill>
            <a:srgbClr val="ffff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35520" y="6149880"/>
            <a:ext cx="1619280" cy="271440"/>
          </a:xfrm>
          <a:prstGeom prst="rect">
            <a:avLst/>
          </a:prstGeom>
          <a:solidFill>
            <a:srgbClr val="ffff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A 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22400" y="6145200"/>
            <a:ext cx="3151080" cy="271440"/>
          </a:xfrm>
          <a:prstGeom prst="rect">
            <a:avLst/>
          </a:prstGeom>
          <a:solidFill>
            <a:srgbClr val="ffff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is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09960" y="2673360"/>
            <a:ext cx="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00400" y="1512720"/>
            <a:ext cx="996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an ‘0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o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l &amp;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F Beta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alled 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87920" y="5816520"/>
            <a:ext cx="2286000" cy="271440"/>
          </a:xfrm>
          <a:prstGeom prst="rect">
            <a:avLst/>
          </a:prstGeom>
          <a:solidFill>
            <a:srgbClr val="ffff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se 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73480" y="6288120"/>
            <a:ext cx="642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71840" y="2678040"/>
            <a:ext cx="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43600" y="2014560"/>
            <a:ext cx="89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 ’0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5315040" y="3472920"/>
            <a:ext cx="0" cy="7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03760" y="4238640"/>
            <a:ext cx="1255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ct ‘0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s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up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2v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53240" y="1714680"/>
            <a:ext cx="895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ct ’0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Mg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7227720" y="3478320"/>
            <a:ext cx="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05640" y="4280040"/>
            <a:ext cx="125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ct ‘0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0cc EM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nea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235480" y="5219640"/>
            <a:ext cx="3510000" cy="2714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1"/>
                </a:solidFill>
                <a:latin typeface="Arial"/>
              </a:rPr>
              <a:t>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33600" y="5484960"/>
            <a:ext cx="5300640" cy="271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872320" y="1903320"/>
            <a:ext cx="89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p ’0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70720" y="2616120"/>
            <a:ext cx="309600" cy="852480"/>
          </a:xfrm>
          <a:custGeom>
            <a:avLst/>
            <a:gdLst/>
            <a:ahLst/>
            <a:rect l="l" t="t" r="r" b="b"/>
            <a:pathLst>
              <a:path w="195" h="537">
                <a:moveTo>
                  <a:pt x="0" y="0"/>
                </a:moveTo>
                <a:lnTo>
                  <a:pt x="0" y="256"/>
                </a:lnTo>
                <a:lnTo>
                  <a:pt x="195" y="256"/>
                </a:lnTo>
                <a:lnTo>
                  <a:pt x="187" y="53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6391440" y="3457440"/>
            <a:ext cx="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45240" y="4248000"/>
            <a:ext cx="1255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y ’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16520" y="2725560"/>
            <a:ext cx="816120" cy="746280"/>
          </a:xfrm>
          <a:custGeom>
            <a:avLst/>
            <a:gdLst/>
            <a:ahLst/>
            <a:rect l="l" t="t" r="r" b="b"/>
            <a:pathLst>
              <a:path w="514" h="470">
                <a:moveTo>
                  <a:pt x="8" y="0"/>
                </a:moveTo>
                <a:lnTo>
                  <a:pt x="0" y="304"/>
                </a:lnTo>
                <a:lnTo>
                  <a:pt x="514" y="312"/>
                </a:lnTo>
                <a:lnTo>
                  <a:pt x="509" y="47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14800" y="2111400"/>
            <a:ext cx="968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 ’0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F serv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13680" y="2887560"/>
            <a:ext cx="815760" cy="235080"/>
          </a:xfrm>
          <a:custGeom>
            <a:avLst/>
            <a:gdLst/>
            <a:ahLst/>
            <a:rect l="l" t="t" r="r" b="b"/>
            <a:pathLst>
              <a:path w="514" h="148">
                <a:moveTo>
                  <a:pt x="0" y="148"/>
                </a:moveTo>
                <a:lnTo>
                  <a:pt x="514" y="148"/>
                </a:lnTo>
                <a:lnTo>
                  <a:pt x="51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595640" y="1730520"/>
            <a:ext cx="875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ct ’0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NC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TB dis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37480" y="5489640"/>
            <a:ext cx="1001880" cy="258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3D24-4EB0-43FC-B11A-96A2BBAA00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ajor milestones met so fa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91880" y="1676520"/>
            <a:ext cx="736596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F-funded components all exist in working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, including Q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se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 Strategy Tool (CoS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tial Surrogate Too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iation T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 obtained, installed, and running at N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AQPS using EMF for supporting ongoing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F training module created and training held at 2007 EPA Emission Inventory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64240" y="3384720"/>
            <a:ext cx="291960" cy="653760"/>
          </a:xfrm>
          <a:custGeom>
            <a:avLst/>
            <a:gdLst>
              <a:gd name="textAreaLeft" fmla="*/ 0 w 291960"/>
              <a:gd name="textAreaRight" fmla="*/ 105480 w 291960"/>
              <a:gd name="textAreaTop" fmla="*/ 16920 h 653760"/>
              <a:gd name="textAreaBottom" fmla="*/ 636840 h 65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062320" y="3408480"/>
            <a:ext cx="215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reate challeng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MOKE inpu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E3F7-7F5E-456C-AC4D-E86772957F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ow Data Manager helps EP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96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s data in a PostgreSQL database accessible by all.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All team members can find the latest data. Others’ data changes shared. Access by staff other than emissions model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multiple versions of datasets.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We can access both old and current versions of data, for reproducibility and transparen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s can edit data in a user interface to the database.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Conveni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ally records metadata, such as who/when makes changes. Allows users to add what/why of changes and manual metadata entry.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Eases our burden for keeping track of details other ways. Adds transparency after work is d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rts SMOKE-ready files, including documentation in file headers.</a:t>
            </a:r>
            <a:r>
              <a:rPr b="0" lang="en-US" sz="20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Saves us time &amp; prevents possible format err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We can better focus on analysis and modeling nee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487E-8AC9-4C5F-9C48-3F050FBC76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9T18:59:49Z</dcterms:created>
  <dc:creator>Marc Houyoux</dc:creator>
  <dc:description/>
  <dc:language>en-US</dc:language>
  <cp:lastModifiedBy>David Misenheimer</cp:lastModifiedBy>
  <dcterms:modified xsi:type="dcterms:W3CDTF">2008-01-17T13:56:42Z</dcterms:modified>
  <cp:revision>31</cp:revision>
  <dc:subject/>
  <dc:title>PowerPoint Presentation</dc:title>
</cp:coreProperties>
</file>